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D820-B7B6-407F-9D67-133F3573DD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CB8F-5774-494F-998A-B58AEA055C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9EE2-3389-4572-B631-15CA554176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97B8-65C5-4E96-939C-5AD9B8DA7E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E2BC-B2CC-40CC-A02D-40DF2F1AB6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9B94-CDC6-40C8-8974-A3FD4D9763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FBBE-033D-4E6A-B758-5BEAE1EE67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3CD9-5726-4B21-8CEF-A757797EBE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0C7A-3F53-40F1-9A43-08BD7AF504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53FA-3812-4895-9E3C-35ECFDB88D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8223-2EBC-42DB-A310-F782DB8A4E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E8AF-55CB-487E-A1CB-8158741CEF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47B4-9A3A-44E5-B295-E166A5DA5A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CBD2-FF85-431D-810D-537ECE43C4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24AE-5156-4A9A-B6A4-927587ABE0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3476-A8B9-4C82-AA6F-DA05408A95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5C27-BA3B-49D6-8B06-5289627292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3237-FC2D-4E66-8267-0DBACE8F80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B30E-60F2-409B-AD82-07CD659585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3F05-0D1B-4E96-974B-849BBEAF36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2CD8-0DB6-477D-8A4B-9D6DD76FE9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12D3-2F59-410D-885F-F05CB2948A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5FC9-FF67-43A6-868D-F9798388BB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D548-081C-4F4D-AD0F-A5942B2F92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FBB0-26AC-4702-8927-ECBDDBBEC8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2B9B-8C99-4EC6-B246-6F751533FC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155-8A07-4960-BB39-6C21B537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A86-B7E9-4E47-A64F-F8C41371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37A-9337-4D17-8BA6-208B7659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A19-5F54-4C76-8540-2DDFD010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C9A-586C-487A-B8E0-F5D2C07B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591-DECA-4D0F-8F46-F3B57DB5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2241-A53F-4C52-87DA-AA40854F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73C9-2F90-4719-9E48-8B132E80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9D73-A1A4-486D-8F7D-6E001B3D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A3D-254E-4214-BBEA-0D6E43E1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D4C5-BD59-4D28-A888-2D6295A0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9DF-7F20-41BE-972C-041641D0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DCBB-63F3-462E-80BF-FF1CF9E289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r.foto.radikal.ru/0703/4c/62848a88ea59.png" TargetMode="External"/><Relationship Id="rId2" Type="http://schemas.openxmlformats.org/officeDocument/2006/relationships/hyperlink" Target="http://s60.radikal.ru/i167/0905/df/b0f13a866051.png" TargetMode="External"/><Relationship Id="rId3" Type="http://schemas.openxmlformats.org/officeDocument/2006/relationships/hyperlink" Target="http://s43.radikal.ru/i100/1001/20/5b7dede1e7dc.png" TargetMode="External"/><Relationship Id="rId4" Type="http://schemas.openxmlformats.org/officeDocument/2006/relationships/hyperlink" Target="http://s59.radikal.ru/i165/1010/56/331c0aa3caaf.png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пустыня"/>
          <p:cNvPicPr/>
          <p:nvPr/>
        </p:nvPicPr>
        <p:blipFill>
          <a:blip r:embed="rId1"/>
          <a:stretch/>
        </p:blipFill>
        <p:spPr>
          <a:xfrm>
            <a:off x="-252360" y="-171360"/>
            <a:ext cx="9396360" cy="70293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5">
            <a:hlinkClick r:id="" action="ppaction://hlinkshowjump?jump=nextslide"/>
          </p:cNvPr>
          <p:cNvSpPr/>
          <p:nvPr/>
        </p:nvSpPr>
        <p:spPr>
          <a:xfrm>
            <a:off x="8244000" y="5805360"/>
            <a:ext cx="576000" cy="792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92360"/>
              <a:gd name="textAreaBottom" fmla="*/ 755280 h 792360"/>
            </a:gdLst>
            <a:ahLst/>
            <a:rect l="textAreaLeft" t="textAreaTop" r="textAreaRight" b="textAreaBottom"/>
            <a:pathLst>
              <a:path w="21600" h="29708">
                <a:moveTo>
                  <a:pt x="0" y="0"/>
                </a:moveTo>
                <a:lnTo>
                  <a:pt x="21600" y="0"/>
                </a:lnTo>
                <a:lnTo>
                  <a:pt x="21600" y="29708"/>
                </a:lnTo>
                <a:lnTo>
                  <a:pt x="0" y="29708"/>
                </a:lnTo>
                <a:close/>
              </a:path>
              <a:path fill="lightenLess" w="21600" h="29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8">
                <a:moveTo>
                  <a:pt x="21600" y="0"/>
                </a:moveTo>
                <a:lnTo>
                  <a:pt x="21600" y="29708"/>
                </a:lnTo>
                <a:lnTo>
                  <a:pt x="20200" y="28308"/>
                </a:lnTo>
                <a:lnTo>
                  <a:pt x="20200" y="1400"/>
                </a:lnTo>
                <a:close/>
              </a:path>
              <a:path fill="darkenLess" w="21600" h="29708">
                <a:moveTo>
                  <a:pt x="21600" y="29708"/>
                </a:moveTo>
                <a:lnTo>
                  <a:pt x="0" y="29708"/>
                </a:lnTo>
                <a:lnTo>
                  <a:pt x="1400" y="28308"/>
                </a:lnTo>
                <a:lnTo>
                  <a:pt x="20200" y="28308"/>
                </a:lnTo>
                <a:close/>
              </a:path>
              <a:path fill="lighten" w="21600" h="29708">
                <a:moveTo>
                  <a:pt x="0" y="29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8"/>
                </a:lnTo>
                <a:close/>
              </a:path>
              <a:path fill="darken" w="21600" h="29708">
                <a:moveTo>
                  <a:pt x="3794" y="7848"/>
                </a:moveTo>
                <a:lnTo>
                  <a:pt x="17806" y="14854"/>
                </a:lnTo>
                <a:lnTo>
                  <a:pt x="3794" y="218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>
            <a:hlinkClick r:id="" action="ppaction://hlinkshowjump?jump=lastslide"/>
          </p:cNvPr>
          <p:cNvSpPr/>
          <p:nvPr/>
        </p:nvSpPr>
        <p:spPr>
          <a:xfrm>
            <a:off x="6804000" y="595008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6" h="21600">
                <a:moveTo>
                  <a:pt x="156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1236" h="21600">
                <a:moveTo>
                  <a:pt x="16723" y="14281"/>
                </a:moveTo>
                <a:lnTo>
                  <a:pt x="16723" y="12323"/>
                </a:lnTo>
                <a:cubicBezTo>
                  <a:pt x="16723" y="11496"/>
                  <a:pt x="17054" y="10800"/>
                  <a:pt x="17655" y="10800"/>
                </a:cubicBezTo>
                <a:cubicBezTo>
                  <a:pt x="18786" y="10800"/>
                  <a:pt x="19683" y="9434"/>
                  <a:pt x="19683" y="7849"/>
                </a:cubicBezTo>
                <a:cubicBezTo>
                  <a:pt x="19683" y="5534"/>
                  <a:pt x="17829" y="3794"/>
                  <a:pt x="15618" y="3794"/>
                </a:cubicBezTo>
                <a:cubicBezTo>
                  <a:pt x="13407" y="3794"/>
                  <a:pt x="11736" y="5534"/>
                  <a:pt x="11736" y="7849"/>
                </a:cubicBezTo>
                <a:lnTo>
                  <a:pt x="13590" y="7849"/>
                </a:lnTo>
                <a:cubicBezTo>
                  <a:pt x="13590" y="6709"/>
                  <a:pt x="14513" y="5821"/>
                  <a:pt x="15618" y="5821"/>
                </a:cubicBezTo>
                <a:cubicBezTo>
                  <a:pt x="16723" y="5821"/>
                  <a:pt x="17655" y="6709"/>
                  <a:pt x="17655" y="7849"/>
                </a:cubicBezTo>
                <a:cubicBezTo>
                  <a:pt x="17655" y="8589"/>
                  <a:pt x="17185" y="9320"/>
                  <a:pt x="16723" y="9320"/>
                </a:cubicBezTo>
                <a:cubicBezTo>
                  <a:pt x="15618" y="9320"/>
                  <a:pt x="14513" y="10800"/>
                  <a:pt x="14513" y="12323"/>
                </a:cubicBezTo>
                <a:lnTo>
                  <a:pt x="14513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4284720" y="333360"/>
            <a:ext cx="4170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гра – тренаж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971640" y="155736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Умникам и умницам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0" y="5516640"/>
            <a:ext cx="39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Кленова Т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У СОШ №152 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280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283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286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89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92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824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6" dur="4745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82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1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32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3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55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6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3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874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7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78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79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1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2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05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07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310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313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16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19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9" dur="indefinite" restart="never" nodeType="tmRoot">
          <p:childTnLst>
            <p:seq>
              <p:cTn id="92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926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8" dur="4745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9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930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34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35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8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6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57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58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1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976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80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81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99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2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03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04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32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3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33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34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34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4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023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028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0" dur="4745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1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032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5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36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7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4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055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8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9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0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1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82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3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6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4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05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6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9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59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6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36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36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7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7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3" dur="indefinite" restart="never" nodeType="tmRoot">
          <p:childTnLst>
            <p:seq>
              <p:cTn id="1124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130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2" dur="4745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7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8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39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157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0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61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62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180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3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84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5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8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2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203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6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07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08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86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38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39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39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9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40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5" dur="indefinite" restart="never" nodeType="tmRoot">
          <p:childTnLst>
            <p:seq>
              <p:cTn id="122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22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0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31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2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5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9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250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3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54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5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77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8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5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296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9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00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1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4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1319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1324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6" dur="4745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13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41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41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42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42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2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7" dur="indefinite" restart="never" nodeType="tmRoot">
          <p:childTnLst>
            <p:seq>
              <p:cTn id="1328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329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334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6" dur="4745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7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338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42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43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0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65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6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9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7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8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89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2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40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0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11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12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5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37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40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442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445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448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451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54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9" dur="indefinite" restart="never" nodeType="tmRoot">
          <p:childTnLst>
            <p:seq>
              <p:cTn id="1430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431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436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8" dur="4745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9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440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3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4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45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2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463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6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67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8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1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5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486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9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90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1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4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8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509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13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14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7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67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469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472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475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478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81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1" dur="indefinite" restart="never" nodeType="tmRoot">
          <p:childTnLst>
            <p:seq>
              <p:cTn id="1532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533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1538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0" dur="4745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1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542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5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6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47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0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4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565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8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69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0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3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588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92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3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6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0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611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4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15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6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9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94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496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499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02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05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508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3" dur="indefinite" restart="never" nodeType="tmRoot">
          <p:childTnLst>
            <p:seq>
              <p:cTn id="163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635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8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39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40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3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658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62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63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6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0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681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4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85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86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9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3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704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7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8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9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6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727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1732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4" dur="4745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21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523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526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29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32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535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41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5" dur="indefinite" restart="never" nodeType="tmRoot">
          <p:childTnLst>
            <p:seq>
              <p:cTn id="1736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737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742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4" dur="4745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5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746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9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50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51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4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6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8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769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2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73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4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7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1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1792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5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96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7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0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815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8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19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0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2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7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7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7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474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5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6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48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550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553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556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559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562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7" dur="indefinite" restart="never" nodeType="tmRoot">
          <p:childTnLst>
            <p:seq>
              <p:cTn id="1838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839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844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6" dur="4745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848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1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52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53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0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871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4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5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76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1894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98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99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2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6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917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0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21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22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5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75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577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580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83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86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589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9" dur="indefinite" restart="never" nodeType="tmRoot">
          <p:childTnLst>
            <p:seq>
              <p:cTn id="1940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941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4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45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46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9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964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7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68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9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2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6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987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0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91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2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5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01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3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14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15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8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2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2033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038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0" dur="4745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02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0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0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61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1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1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1" dur="indefinite" restart="never" nodeType="tmRoot">
          <p:childTnLst>
            <p:seq>
              <p:cTn id="2042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2043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048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0" dur="4745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1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2052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5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56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7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0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4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2075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8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79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80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3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7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2098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1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02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03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6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0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2121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4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25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26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9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29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63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3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63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4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4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3" dur="indefinite" restart="never" nodeType="tmRoot">
          <p:childTnLst>
            <p:seq>
              <p:cTn id="2144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2145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2150" dur="2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2" dur="4745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3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2154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7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58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59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2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6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2177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0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81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82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5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9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2200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3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04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05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2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2223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6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27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28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1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5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56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5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6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66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6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7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5" dur="indefinite" restart="never" nodeType="tmRoot">
          <p:childTnLst>
            <p:seq>
              <p:cTn id="2246" restart="whenNotActive" nodeType="interactiveSeq" fill="hold">
                <p:stCondLst>
                  <p:cond evt="onClick">
                    <p:tgtEl>
                      <p:spTgt spid="657"/>
                    </p:tgtEl>
                  </p:cond>
                </p:stCondLst>
                <p:childTnLst>
                  <p:par>
                    <p:cTn id="2247" fill="hold">
                      <p:stCondLst>
                        <p:cond evt="onClick">
                          <p:tgtEl>
                            <p:spTgt spid="657"/>
                          </p:tgtEl>
                        </p:cond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252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4" dur="4745" fill="hold"/>
                                        <p:tgtEl>
                                          <p:spTgt spid="6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5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2256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9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60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61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4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8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2279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2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83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84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7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1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2302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5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06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7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0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4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2325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8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29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30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3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83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68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68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69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9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69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7" dur="indefinite" restart="never" nodeType="tmRoot">
          <p:childTnLst>
            <p:seq>
              <p:cTn id="2348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2349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2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53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54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7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1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2372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5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76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77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0" dur="5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5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4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2395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8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99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00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3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7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2418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1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22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23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6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0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2441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44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446" dur="2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8" dur="4745" fill="hold"/>
                                        <p:tgtEl>
                                          <p:spTgt spid="7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нтернет - 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ис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.foto.radikal.ru/0703/4c/62848a88ea59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Черепах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60.radikal.ru/i167/0905/df/b0f13a86605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ыш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43.radikal.ru/i100/1001/20/5b7dede1e7dc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Жираф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59.radikal.ru/i165/1010/56/331c0aa3caaf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ра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s59.radikal.ru/i166/0903/59/7431a707a57a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ерблюд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http://www.elephant.ru/images/toys/190/500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устын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http://www.pcservicespb.ru/wallpaper/wallpaper/pustosh/1280/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пуга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s003.radikal.ru/i201/1010/90/a084e16c5d9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онвер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s11.radikal.ru/i183/0908/61/ef01b4e7d54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4">
            <a:hlinkClick r:id="" action="ppaction://hlinkshowjump?jump=firstslide"/>
          </p:cNvPr>
          <p:cNvSpPr/>
          <p:nvPr/>
        </p:nvSpPr>
        <p:spPr>
          <a:xfrm>
            <a:off x="7740720" y="5950080"/>
            <a:ext cx="934920" cy="718920"/>
          </a:xfrm>
          <a:custGeom>
            <a:avLst/>
            <a:gdLst>
              <a:gd name="textAreaLeft" fmla="*/ 46440 w 934920"/>
              <a:gd name="textAreaRight" fmla="*/ 888480 w 934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086" h="21600">
                <a:moveTo>
                  <a:pt x="0" y="0"/>
                </a:moveTo>
                <a:lnTo>
                  <a:pt x="28086" y="0"/>
                </a:lnTo>
                <a:lnTo>
                  <a:pt x="28086" y="21600"/>
                </a:lnTo>
                <a:lnTo>
                  <a:pt x="0" y="21600"/>
                </a:lnTo>
                <a:close/>
              </a:path>
              <a:path fill="lightenLess" w="28086" h="21600">
                <a:moveTo>
                  <a:pt x="0" y="0"/>
                </a:moveTo>
                <a:lnTo>
                  <a:pt x="28086" y="0"/>
                </a:lnTo>
                <a:lnTo>
                  <a:pt x="26686" y="1400"/>
                </a:lnTo>
                <a:lnTo>
                  <a:pt x="1400" y="1400"/>
                </a:lnTo>
                <a:close/>
              </a:path>
              <a:path fill="darken" w="28086" h="21600">
                <a:moveTo>
                  <a:pt x="28086" y="0"/>
                </a:moveTo>
                <a:lnTo>
                  <a:pt x="28086" y="21600"/>
                </a:lnTo>
                <a:lnTo>
                  <a:pt x="26686" y="20200"/>
                </a:lnTo>
                <a:lnTo>
                  <a:pt x="26686" y="1400"/>
                </a:lnTo>
                <a:close/>
              </a:path>
              <a:path fill="darkenLess" w="28086" h="21600">
                <a:moveTo>
                  <a:pt x="28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6" y="20200"/>
                </a:lnTo>
                <a:close/>
              </a:path>
              <a:path fill="lighten" w="28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6" h="21600">
                <a:moveTo>
                  <a:pt x="14043" y="3837"/>
                </a:moveTo>
                <a:lnTo>
                  <a:pt x="16620" y="6448"/>
                </a:lnTo>
                <a:lnTo>
                  <a:pt x="16620" y="4707"/>
                </a:lnTo>
                <a:lnTo>
                  <a:pt x="18395" y="4707"/>
                </a:lnTo>
                <a:lnTo>
                  <a:pt x="18395" y="8224"/>
                </a:lnTo>
                <a:lnTo>
                  <a:pt x="21006" y="10800"/>
                </a:lnTo>
                <a:lnTo>
                  <a:pt x="19353" y="10800"/>
                </a:lnTo>
                <a:lnTo>
                  <a:pt x="19353" y="17989"/>
                </a:lnTo>
                <a:lnTo>
                  <a:pt x="8734" y="17989"/>
                </a:lnTo>
                <a:lnTo>
                  <a:pt x="8734" y="10800"/>
                </a:lnTo>
                <a:lnTo>
                  <a:pt x="7080" y="10800"/>
                </a:lnTo>
                <a:close/>
              </a:path>
              <a:path fill="darkenLess" w="28086" h="21600">
                <a:moveTo>
                  <a:pt x="16620" y="6448"/>
                </a:moveTo>
                <a:lnTo>
                  <a:pt x="16620" y="4707"/>
                </a:lnTo>
                <a:lnTo>
                  <a:pt x="18395" y="4707"/>
                </a:lnTo>
                <a:lnTo>
                  <a:pt x="18395" y="8224"/>
                </a:lnTo>
                <a:close/>
              </a:path>
              <a:path fill="darkenLess" w="28086" h="21600">
                <a:moveTo>
                  <a:pt x="13121" y="14299"/>
                </a:moveTo>
                <a:lnTo>
                  <a:pt x="14966" y="14299"/>
                </a:lnTo>
                <a:lnTo>
                  <a:pt x="14966" y="17989"/>
                </a:lnTo>
                <a:lnTo>
                  <a:pt x="19353" y="17989"/>
                </a:lnTo>
                <a:lnTo>
                  <a:pt x="19353" y="10800"/>
                </a:lnTo>
                <a:lnTo>
                  <a:pt x="8734" y="10800"/>
                </a:lnTo>
                <a:lnTo>
                  <a:pt x="8734" y="17989"/>
                </a:lnTo>
                <a:lnTo>
                  <a:pt x="1312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89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9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9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9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0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10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9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2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3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5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0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4745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16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11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12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12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2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3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1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474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0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1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6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0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14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14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15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5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5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314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4745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3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8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9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1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2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70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172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175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178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181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84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41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474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4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5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7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8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0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1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3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4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97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199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202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205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08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11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51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4745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6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9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0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2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3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5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6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24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226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229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232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35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238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3" dur="indefinite" restart="never" nodeType="tmRoot">
          <p:childTnLst>
            <p:seq>
              <p:cTn id="61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9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0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1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42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3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6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8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89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71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4" dur="4745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51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253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256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259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62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65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5" dur="indefinite" restart="never" nodeType="tmRoot">
          <p:childTnLst>
            <p:seq>
              <p:cTn id="71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722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4" dur="4745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0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1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2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53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4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76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7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79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8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99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00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3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0:05:02Z</dcterms:created>
  <dc:creator>user</dc:creator>
  <dc:description/>
  <dc:language>en-US</dc:language>
  <cp:lastModifiedBy>Юрий</cp:lastModifiedBy>
  <dcterms:modified xsi:type="dcterms:W3CDTF">2011-04-02T08:13:59Z</dcterms:modified>
  <cp:revision>64</cp:revision>
  <dc:subject/>
  <dc:title>Слайд 1</dc:title>
</cp:coreProperties>
</file>